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5802-2CDA-4D1E-B52A-6C22712C1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22D7-DBD7-497E-8E12-703CFAE7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813F-56BB-4A61-8C3C-7A76152C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C7F2-F2AB-4F24-9ADC-00C05557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29BC-4561-4EB0-A161-54B7289D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1E20-CB67-4CBD-9481-2CD67D06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B4C0-2D88-47B4-AE24-41E7EC86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75CB-639E-4510-8D98-C53059AC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3B5E-2988-48BA-84BE-73D4DB1E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49D5-D079-4113-B1B4-67C51A70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6A8D-5C1D-44BC-A779-77E4D9C1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2F7B-CD78-4C35-9010-238C492E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23CE-39D4-4160-B2A5-83EE13D86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lickr.com/" TargetMode="External"/><Relationship Id="rId2" Type="http://schemas.openxmlformats.org/officeDocument/2006/relationships/hyperlink" Target="http://www.flickr.com/" TargetMode="External"/><Relationship Id="rId3" Type="http://schemas.openxmlformats.org/officeDocument/2006/relationships/hyperlink" Target="http://www.flickr.com/" TargetMode="External"/><Relationship Id="rId4" Type="http://schemas.openxmlformats.org/officeDocument/2006/relationships/hyperlink" Target="http://www.google.com/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nimoto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2057400"/>
            <a:ext cx="7924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imoto Mini-Projec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You are going to create an Animoto film about your year-long project to share with your classmates.  You must use the time wisely for this to be finished.  This will count as a test grade!!!!!  Follow the steps below in order to complete the project. Check off as you complete the steps!  GOOD LUCK </a:t>
            </a:r>
            <a:r>
              <a:rPr b="1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752480" y="228600"/>
            <a:ext cx="5943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ASK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__ #1.  Create a folder in your stud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folder and name it PICTU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(watch demonstration from Ms. 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52480" y="380880"/>
            <a:ext cx="6172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EP #1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8120" y="41148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__ #2.  On a scrap sheet of paper, brainstorm a list of possible pictures that relate to your topic.  This will help you begin your search of pi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19520" y="4038480"/>
            <a:ext cx="335268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_____  #3.  Use the internet to find pictures to insert into your Animoto.  Use the following websites to start looking for pict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lickr.com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R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goog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(then click images at to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___ #4. When you find a picture you want to use follow the steps below to save it to  the folder PICTURES you created in Step #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(watch demonstration from Ms. 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left click on the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choose SAVE PICTURE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find the PICTURES FOLDER you c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name your pi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press S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ff"/>
                </a:solidFill>
                <a:latin typeface="Arial"/>
              </a:rPr>
              <a:t>*you should make a folder of at least 15 picture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__#5.  Once you have found all your pictures, it is time to begin putting together your Animoto. Go to the Animoto websit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animoto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rite down  your email and create pass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ecord this bel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*See Ms. A if you need an email account!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18:52:52Z</dcterms:created>
  <dc:creator>Administrator</dc:creator>
  <dc:description/>
  <dc:language>en-US</dc:language>
  <cp:lastModifiedBy>Administrator</cp:lastModifiedBy>
  <dcterms:modified xsi:type="dcterms:W3CDTF">2009-05-29T19:05:36Z</dcterms:modified>
  <cp:revision>2</cp:revision>
  <dc:subject/>
  <dc:title>Slide 1</dc:title>
</cp:coreProperties>
</file>